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997-4E29-4C3A-92CF-8E509186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294-FE72-4487-8F67-9540AD9D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92C-4A09-41B4-B245-245DA6CB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7DC-244B-44DA-98FB-882F6B21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D4A8-7A11-4851-8B76-A8D95F10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F641-3AA2-4818-B88D-6DB3D386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0DBE-A606-4983-8B67-7D36BF6E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23F8-6944-4FB5-8DB1-84B71CED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7447-980B-4862-9096-B0AC98C3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9E10-1E60-49C5-B091-77ECA8A4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8CE4-B9CB-4B15-BB90-E87B0AB1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255-E61B-41D6-8D31-D793E0E3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434D-D654-4F5C-8DE2-97BEC0EE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DCA4-54DC-4182-B0DC-3E01D434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D3BF-FBE9-46A6-AF40-B125E0E6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EF5A-F1E2-454B-907A-DD723DC5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7862-2FA2-47D3-BFF9-4684C09D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3BD-B090-48BC-A664-66760ECC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CDA-670C-48D2-A384-623BC37C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64A-BCB3-4C82-B82C-92C38BA1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147-EB5A-42D8-BB0B-F5D2F0CD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EB4-48FB-435D-A50E-5FCA31FC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86A-C767-4837-A8E0-108D7CFC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A50-59A1-4F45-AFFF-6182A4E8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BFD9-C61B-482C-9F65-026C7D3C5E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8BC2-DF50-4AC2-B82F-35016DDDFE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Broadway"/>
              </a:rPr>
              <a:t>Walthill Public Schoo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NCA Data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gust 2, 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Data Sour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b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msw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W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638680" y="9907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0" y="2438280"/>
            <a:ext cx="2085840" cy="1960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114800" y="4038480"/>
            <a:ext cx="2355840" cy="1438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934320" y="5486400"/>
            <a:ext cx="15238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What Reports are used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 Car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p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 rot="1267200">
            <a:off x="6380280" y="1699920"/>
            <a:ext cx="2133360" cy="1606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419720" y="3124080"/>
            <a:ext cx="1582560" cy="2057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 rot="20136600">
            <a:off x="5638680" y="5105160"/>
            <a:ext cx="304812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Analyzing the Da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ginning the school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fore T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/T Confer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T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029200" y="1981080"/>
            <a:ext cx="3695760" cy="4114800"/>
            <a:chOff x="5029200" y="1981080"/>
            <a:chExt cx="3695760" cy="41148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5029200" y="1981080"/>
              <a:ext cx="369576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 txBox="1"/>
            <p:nvPr/>
          </p:nvSpPr>
          <p:spPr>
            <a:xfrm>
              <a:off x="5029200" y="1981080"/>
              <a:ext cx="36957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Involving Staff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z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minist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 T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809880" y="1981080"/>
            <a:ext cx="5105520" cy="4114800"/>
            <a:chOff x="3809880" y="1981080"/>
            <a:chExt cx="5105520" cy="411480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3809880" y="1981080"/>
              <a:ext cx="51055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 txBox="1"/>
            <p:nvPr/>
          </p:nvSpPr>
          <p:spPr>
            <a:xfrm>
              <a:off x="3809880" y="1981080"/>
              <a:ext cx="510552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What changes have we made because of analyzing data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hanges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halleng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constra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42000" y="1905120"/>
            <a:ext cx="3179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8:05:43Z</dcterms:created>
  <dc:creator>Carol Hilker</dc:creator>
  <dc:description/>
  <dc:language>en-US</dc:language>
  <cp:lastModifiedBy>Carol Hilker</cp:lastModifiedBy>
  <dcterms:modified xsi:type="dcterms:W3CDTF">2011-08-01T20:37:29Z</dcterms:modified>
  <cp:revision>4</cp:revision>
  <dc:subject/>
  <dc:title>Walthill Public Schools</dc:title>
</cp:coreProperties>
</file>